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701-08E2-46E3-8E91-64702ADE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ADE-7BDA-4628-8C2E-32F6D9E4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692-6DFD-442F-AEE5-8C8378A8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A01-86A6-476E-B1D6-BE95CD46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99B-32F1-4F83-8C9E-4E029739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2F1-C61E-4322-9F9C-8CA59ADB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7C1-821E-4E5A-98F3-73FD83EB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BD4-B932-43A6-BE01-9A196A91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34F-E87C-4926-819F-D00C2C96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6D9-EBF8-4679-BD0C-89E53290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0A4-A796-4A71-950C-E504B914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A8A-90E1-4539-BA3C-AB5F45A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F2C7-37EA-4CBA-B500-33602093E7D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ncyclomedia.com/video-discovery_of_the_holocaust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9.1 Identifying Prejudice and 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76360" y="1947960"/>
            <a:ext cx="6551640" cy="4505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7744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we take in information, it is easy for us to form beliefs about particular groups in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ce we apply these beliefs to individual members of a group, the beliefs are called stereotyp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example, we can categories individuals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720960" cy="501336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3" descr=""/>
          <p:cNvPicPr/>
          <p:nvPr/>
        </p:nvPicPr>
        <p:blipFill>
          <a:blip r:embed="rId2"/>
          <a:stretch/>
        </p:blipFill>
        <p:spPr>
          <a:xfrm>
            <a:off x="5065560" y="3090960"/>
            <a:ext cx="325620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095720" cy="460872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5357880" y="3133800"/>
            <a:ext cx="289080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4048200" cy="284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24000" y="4260960"/>
            <a:ext cx="338436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3" descr=""/>
          <p:cNvPicPr/>
          <p:nvPr/>
        </p:nvPicPr>
        <p:blipFill>
          <a:blip r:embed="rId3"/>
          <a:stretch/>
        </p:blipFill>
        <p:spPr>
          <a:xfrm>
            <a:off x="5327640" y="4827600"/>
            <a:ext cx="2987640" cy="156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4500720" y="1413000"/>
            <a:ext cx="453528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4165560" cy="1543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320" y="3716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4788000" y="1413000"/>
            <a:ext cx="3949560" cy="26287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3" descr=""/>
          <p:cNvPicPr/>
          <p:nvPr/>
        </p:nvPicPr>
        <p:blipFill>
          <a:blip r:embed="rId4"/>
          <a:stretch/>
        </p:blipFill>
        <p:spPr>
          <a:xfrm>
            <a:off x="5278320" y="4956120"/>
            <a:ext cx="321948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n we can make either positive or negative judgements about these people as members of their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inforcement of stereotypes can come from many sources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2563920" cy="241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3527640" cy="18716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4" descr=""/>
          <p:cNvPicPr/>
          <p:nvPr/>
        </p:nvPicPr>
        <p:blipFill>
          <a:blip r:embed="rId3"/>
          <a:stretch/>
        </p:blipFill>
        <p:spPr>
          <a:xfrm>
            <a:off x="23760" y="3554280"/>
            <a:ext cx="2511360" cy="156060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5" descr=""/>
          <p:cNvPicPr/>
          <p:nvPr/>
        </p:nvPicPr>
        <p:blipFill>
          <a:blip r:embed="rId4"/>
          <a:stretch/>
        </p:blipFill>
        <p:spPr>
          <a:xfrm>
            <a:off x="2444760" y="3498840"/>
            <a:ext cx="7059600" cy="15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5"/>
          <a:stretch/>
        </p:blipFill>
        <p:spPr>
          <a:xfrm>
            <a:off x="108000" y="4668840"/>
            <a:ext cx="1871640" cy="2103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6"/>
          <a:stretch/>
        </p:blipFill>
        <p:spPr>
          <a:xfrm>
            <a:off x="2395440" y="4834080"/>
            <a:ext cx="2624400" cy="197964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7" descr=""/>
          <p:cNvPicPr/>
          <p:nvPr/>
        </p:nvPicPr>
        <p:blipFill>
          <a:blip r:embed="rId7"/>
          <a:stretch/>
        </p:blipFill>
        <p:spPr>
          <a:xfrm>
            <a:off x="5108400" y="4827600"/>
            <a:ext cx="4029120" cy="23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ejudice emerges when stereotypes are negative or inaccurate in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ly when those who hold the stereotype have some power or authority can prejudice go to the next level, which is 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 this point prejudices are acted upon to mistreat or deny rights to a member or members of what psychologist Gordon Allport called an “out-group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’s in a Word or Sym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Rac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egative behaviour based on an incorrect assumption that one race is inherently superior to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fair, actions directed against people based on their race, gender, ethnicity, language, faith or sexual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kids-bullying"/>
          <p:cNvPicPr/>
          <p:nvPr/>
        </p:nvPicPr>
        <p:blipFill>
          <a:blip r:embed="rId1"/>
          <a:stretch/>
        </p:blipFill>
        <p:spPr>
          <a:xfrm>
            <a:off x="179280" y="1413000"/>
            <a:ext cx="3657600" cy="4948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100438646_72488630-ad8c-44a3-8813-40ef02b67efa-the-office"/>
          <p:cNvPicPr/>
          <p:nvPr/>
        </p:nvPicPr>
        <p:blipFill>
          <a:blip r:embed="rId2"/>
          <a:stretch/>
        </p:blipFill>
        <p:spPr>
          <a:xfrm>
            <a:off x="4067280" y="1628640"/>
            <a:ext cx="45640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.L W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eenberg”  “Lockw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i-Semit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mr_and_mrs_smith_ver1"/>
          <p:cNvPicPr/>
          <p:nvPr/>
        </p:nvPicPr>
        <p:blipFill>
          <a:blip r:embed="rId1"/>
          <a:stretch/>
        </p:blipFill>
        <p:spPr>
          <a:xfrm>
            <a:off x="0" y="1700280"/>
            <a:ext cx="3886200" cy="5157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row-Indian"/>
          <p:cNvPicPr/>
          <p:nvPr/>
        </p:nvPicPr>
        <p:blipFill>
          <a:blip r:embed="rId2"/>
          <a:stretch/>
        </p:blipFill>
        <p:spPr>
          <a:xfrm>
            <a:off x="4572000" y="1700280"/>
            <a:ext cx="4048200" cy="4443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derstanding Prejudice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digm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r By on the street- “Rules and Condi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Q Testing: Discrimination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Q tests are built upon a body of vocabulary and knowledge familiar to “mainstream”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students from other races or cultures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oc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ltimate form of 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nic Cleansing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ncyclomedia.com/video-discovery_of_the_holocaust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istaken Accus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e if you can find the mistakes in the following accusations by high school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girl says that she has been discriminated against because another girls doesn’t like 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other student claims that the teacher is prejudiced in favour of all athletes in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volve people who are outside the “mainstream of society” or outside “positions of power and authority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sadvantage can be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83560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2"/>
          <a:stretch/>
        </p:blipFill>
        <p:spPr>
          <a:xfrm>
            <a:off x="1189080" y="5383080"/>
            <a:ext cx="650412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286704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399360" y="1092240"/>
            <a:ext cx="2744640" cy="38084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3"/>
          <a:stretch/>
        </p:blipFill>
        <p:spPr>
          <a:xfrm>
            <a:off x="3554280" y="2773440"/>
            <a:ext cx="202896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4344840" cy="309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72000" y="3789360"/>
            <a:ext cx="4572000" cy="30942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3" descr=""/>
          <p:cNvPicPr/>
          <p:nvPr/>
        </p:nvPicPr>
        <p:blipFill>
          <a:blip r:embed="rId3"/>
          <a:stretch/>
        </p:blipFill>
        <p:spPr>
          <a:xfrm>
            <a:off x="5486400" y="1805040"/>
            <a:ext cx="306720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3543480" cy="319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788000" y="2792520"/>
            <a:ext cx="4356000" cy="406548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3" descr=""/>
          <p:cNvPicPr/>
          <p:nvPr/>
        </p:nvPicPr>
        <p:blipFill>
          <a:blip r:embed="rId3"/>
          <a:stretch/>
        </p:blipFill>
        <p:spPr>
          <a:xfrm>
            <a:off x="237960" y="4638600"/>
            <a:ext cx="402912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995640" y="1628640"/>
            <a:ext cx="4799160" cy="426564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3" descr=""/>
          <p:cNvPicPr/>
          <p:nvPr/>
        </p:nvPicPr>
        <p:blipFill>
          <a:blip r:embed="rId2"/>
          <a:stretch/>
        </p:blipFill>
        <p:spPr>
          <a:xfrm>
            <a:off x="811080" y="3236760"/>
            <a:ext cx="230364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8:02:21Z</dcterms:created>
  <dc:creator>Jason</dc:creator>
  <dc:description/>
  <dc:language>en-US</dc:language>
  <cp:lastModifiedBy>Jason</cp:lastModifiedBy>
  <dcterms:modified xsi:type="dcterms:W3CDTF">2011-06-07T15:14:14Z</dcterms:modified>
  <cp:revision>13</cp:revision>
  <dc:subject/>
  <dc:title>9.1 Identifying Prejudice and Discrimination</dc:title>
</cp:coreProperties>
</file>